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620A-60E2-4294-87FB-17F9FF44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41B0-2175-4113-A791-00C02D79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6792D-DDBF-42BA-BB3E-5D102E4B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DB84-D1FB-479C-92FB-0A3BC991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BE11-E06D-4EBA-90FF-C8200D7B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9CBF-F4DA-4C63-8185-FC1E4F79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DC7D-2B8D-4253-9BEE-C3ABB6AC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CC10-03D7-4CB6-AB08-1D060E86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D218-C28A-457E-92FF-893F5678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E45B-3B63-4047-82B5-518ED3DA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FDC2-FBB1-43A6-B64F-5A2FDBEE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1071-F5E4-4C96-9278-FB2EAA4F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F238-5E28-4BA1-891A-89BAAFC0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5FB3-C59D-41C9-83E0-DABD9F9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0D40-7E13-4752-9B17-FF8B4F36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C3CB-9D36-472E-A04F-8C0F6430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0AAE-0488-4943-9EB3-D54A11F5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B6DB-4F74-4791-96AD-8E3C1869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6C7E4-E730-475B-A388-506BB00A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DC1E-FC5C-4332-B09C-744FD9A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57F5-83FD-4560-A00A-EB5F96F9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A423-900B-4AA2-91E2-B9181BEC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35D3-CED6-48D7-A418-E6EC2C21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4CC9-F349-4793-BC53-6A093FC8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E097-361F-459B-B0D3-5D1D3FF9C64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FEE2-4FCA-4900-A102-0C4137F1088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82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5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57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Ангелски, а и човешк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и езици аз да зн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как да не правя грешк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говоря и със пл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валят ли човеци мен вре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любов все нямам аз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звънтя напразно кат ме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 кимвал със празен гл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005840"/>
            <a:ext cx="96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И пророчество да им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йните да зная век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гън с вярата да снем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премествам канар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раздам всеки имот св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ки час да съм гот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огъня на смърт да ид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ак съм нищо без люб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6360" y="1148760"/>
            <a:ext cx="92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Към човека и към Бог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да имаме любов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я е на мира залог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рае и до век веко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руго нищо тук не мож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любовта да заме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й да имаме, о, Бож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ял във вечната любов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4:40:19Z</dcterms:modified>
  <cp:revision>83</cp:revision>
  <dc:subject/>
  <dc:title>Slide 1</dc:title>
</cp:coreProperties>
</file>